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E2267-6B56-43F9-9073-AE4981383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20316-DE44-459C-BF11-81894DEAB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80AEF-D4EE-408F-8A64-875DF73D5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D61F0-DDDE-4C45-9298-68E95C812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2EEC6-7F1E-42AB-87B7-DB3D60985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D707B-4C0B-4B3D-88B5-8A4556620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484D7-D1ED-4C50-BF42-622CFA8B6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C0D04-1C77-48A1-9234-B280F13DA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D1B2F-B03B-4E29-8679-B586A4B8F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29E79-489D-4F03-A645-E7F2133DF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73D19-ED1A-4AD2-8DFF-6E56AB00D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FD8BE-64D0-4B9B-9EBD-0D586F555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1AF89-1D37-4A99-B0EF-C486EF52AA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2895480" y="2819520"/>
          <a:ext cx="3014280" cy="1196640"/>
        </p:xfrm>
        <a:graphic>
          <a:graphicData uri="http://schemas.openxmlformats.org/drawingml/2006/table">
            <a:tbl>
              <a:tblPr/>
              <a:tblGrid>
                <a:gridCol w="1040400"/>
                <a:gridCol w="1973880"/>
              </a:tblGrid>
              <a:tr h="360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31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6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124080" y="2362320"/>
          <a:ext cx="4038840" cy="1197000"/>
        </p:xfrm>
        <a:graphic>
          <a:graphicData uri="http://schemas.openxmlformats.org/drawingml/2006/table">
            <a:tbl>
              <a:tblPr/>
              <a:tblGrid>
                <a:gridCol w="1081080"/>
                <a:gridCol w="2957760"/>
              </a:tblGrid>
              <a:tr h="36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hexadecim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4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8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10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3124080" y="2362320"/>
          <a:ext cx="3886200" cy="1108080"/>
        </p:xfrm>
        <a:graphic>
          <a:graphicData uri="http://schemas.openxmlformats.org/drawingml/2006/table">
            <a:tbl>
              <a:tblPr/>
              <a:tblGrid>
                <a:gridCol w="1040040"/>
                <a:gridCol w="284616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hexadecim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4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8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1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990720" y="2286000"/>
          <a:ext cx="5562360" cy="1108080"/>
        </p:xfrm>
        <a:graphic>
          <a:graphicData uri="http://schemas.openxmlformats.org/drawingml/2006/table">
            <a:tbl>
              <a:tblPr/>
              <a:tblGrid>
                <a:gridCol w="914400"/>
                <a:gridCol w="1295280"/>
                <a:gridCol w="1371600"/>
                <a:gridCol w="198108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put forma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 forma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bits to upscal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.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990720" y="2286000"/>
          <a:ext cx="5562360" cy="1108080"/>
        </p:xfrm>
        <a:graphic>
          <a:graphicData uri="http://schemas.openxmlformats.org/drawingml/2006/table">
            <a:tbl>
              <a:tblPr/>
              <a:tblGrid>
                <a:gridCol w="914400"/>
                <a:gridCol w="1295280"/>
                <a:gridCol w="1371600"/>
                <a:gridCol w="198108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put forma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 forma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bits to upscal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.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.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.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0T06:45:48Z</dcterms:created>
  <dc:creator>AMI-D02</dc:creator>
  <dc:description/>
  <dc:language>en-US</dc:language>
  <cp:lastModifiedBy>AMI-D02</cp:lastModifiedBy>
  <dcterms:modified xsi:type="dcterms:W3CDTF">2010-11-10T07:19:15Z</dcterms:modified>
  <cp:revision>6</cp:revision>
  <dc:subject/>
  <dc:title>Slide 1</dc:title>
</cp:coreProperties>
</file>